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CD6-CE8C-4A4F-B62F-6F444DB9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695-BB61-4DE8-B261-FB5FA32F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B61-A706-411D-A051-ABAFB391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2EE-44B7-47B8-90AB-D115A448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7E6-B106-4C2A-8F8B-F17D3D15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C19-06F9-4B96-9003-461CCCD5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BA8-871A-4DF0-B698-7DDE7322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2FE-6892-4D36-83EB-1FB678B0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22F-DFE3-488D-80CF-F8BFA391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7E9-2EE6-45BF-9F17-5D5FEF2A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784-6D78-402F-AF55-729F97A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859-81C2-4472-A776-2F836882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968E-AAB3-43E1-8E39-5D8586425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means to tame wild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that it is possible to use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human wants and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sign “Domestication of Animals”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 who study rui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tifa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rche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f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clot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temporary shel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o H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Paleolithic Age what are three things people learned how to do or m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record of firsthand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is very rel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primary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gn Number F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c Achieve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ciety that can trade and barter so people can exchange goods for things they don’t have is successfully using which sign of civi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out archeology w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ow about the live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ent people and civiliz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Archeology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rning to grow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rning to herd anima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wo important discoveries were brought on the Neolithic Rev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hand information wh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es from someone who was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, but heard about the ev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econdary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government to provid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ociety is cosidered a “Highly Organized Society” according to the signs of civilization, what do they now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osetta Stone is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it translated Anci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gyptian writing into Greek, wh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owed us to understand Anci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gyptian writing for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Rosetta Stone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9810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0"/>
            <a:ext cx="2057400" cy="8240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 of Man and Neolithic Re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0"/>
            <a:ext cx="22100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s of Civ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ecialization is the develop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different occup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pe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ociety with a develop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farming, trade, governmen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t, and sci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iv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shows that tools can be us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der to grow more crops to f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growing population of peop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explain what the sign “Cultivation of Crops” descri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1532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495680"/>
            <a:ext cx="7619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ms make your final wagers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nt: This question has to do with Archeolo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0666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inal Jeopardy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990720"/>
            <a:ext cx="8382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the most accurate method known to humans to date artifac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xplain what the method is and how it work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cheology is the stud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cient people, culture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ifac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rch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tinent did the first people live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includes the way a group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ul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igns of civilization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ngs once used by anc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that have histor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l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rti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4479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o - Magnon and Neanderth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 names of the two different groups of humans during the Paleolithic 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eans to trade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no money involv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B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CPS</cp:lastModifiedBy>
  <cp:lastPrinted>2001-01-31T16:21:13Z</cp:lastPrinted>
  <dcterms:modified xsi:type="dcterms:W3CDTF">2009-09-14T23:09:36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